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Greek anatome, “dissection”) is a branch of natural science dealing with the structural organization of living things. It is an old science, having its beginnings in prehistoric times. For centuries anatomical knowledge consisted largely of observations of dissected plants and animals. The proper understanding of structure, however, implies knowledge of function in the living organism. Anatomy is therefore almost inseparable from physiology, which is sometimes called functional anatomy. As one of the basic life sciences, anatomy is closely related to medicine and to other branches of biolog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qui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m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t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utin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ra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ato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proper understanding of structure imp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study of anatomy be divi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ubdivisions of anato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gross anatomy invo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knowledge of the body acquired in the p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gave anatomy a considerable factual basis for the first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modern anatomy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most important factor in the following development of anatomical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new technologies in the 20</a:t>
            </a:r>
            <a:r>
              <a:rPr b="0" lang="en-US" sz="2000" spc="-1" strike="noStrike" baseline="30000">
                <a:solidFill>
                  <a:srgbClr val="000000"/>
                </a:solidFill>
                <a:latin typeface="Arial"/>
              </a:rPr>
              <a:t>th</a:t>
            </a:r>
            <a:r>
              <a:rPr b="0" lang="en-US" sz="2000" spc="-1" strike="noStrike">
                <a:solidFill>
                  <a:srgbClr val="000000"/>
                </a:solidFill>
                <a:latin typeface="Arial"/>
              </a:rPr>
              <a:t> century e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are opposites of these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m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eg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aq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from the following words and use them in sentences of your ow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div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ul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can be derived from the following:</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er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tatements according to the text:</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n of the basic life sciences, anatomy is closely relat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omy can be divided according t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l anatomy is the study o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anatomists based their knowledge 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of compound microscopes wa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ctron microscope stimul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Анатомија буквално значи дисекција или сечење напола, термин који се одувек користи да би означио науку о структури живих бића; тако постоји анатомија животиња (зоотомија) и анатомија биљака (фитотомија). Анатомија животиња може да укључи науку о структури различитих животиња и у том случају говоримо о компаративној анатомији или морфологији животиња или може се ограничити на само једну животињу и онда се назива специјална анатомија. Проучавање човека је најважнији део специјалне анатомије и ова хумана анатомија се може разматрати са различитих тачки гледишта. Са тачке гледишта човека који се бави медицином, хумана анатомија се састоји од знања о тачном облику, положају, величини и односу различитих структура здравог људског тела и ова наука се зато зове дескриптивна или топографска хумана анатомиј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7T15:40:09Z</dcterms:modified>
  <cp:revision>12</cp:revision>
  <dc:subject/>
  <dc:title>Slide 1</dc:title>
</cp:coreProperties>
</file>